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4B9-55F3-488B-B98A-78E57B41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7C0-EC8F-4B49-98B8-038B287E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4A3-3547-43CC-9E71-5EF46896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97A-35DC-428D-80C5-F8D427EB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D20-161E-448E-A2C3-AFEB9EDB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37C-9AC6-42B3-92D8-4DB5393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D93-3BEB-4AE1-9C75-2CD968AE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A0C-69CE-465B-8172-A574C0B9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BA9-1D21-439D-A376-350AE3A5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1C5-7025-4D5B-86ED-E55B7F7F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952-AA25-4EE0-B3D3-8A7CA67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C2B-31F9-4064-A9B7-D4B999B4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0F1-45D7-48ED-AE02-50B4F7243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53572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338640" cy="62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563868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400800" cy="530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8320" y="2133720"/>
            <a:ext cx="761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666880"/>
            <a:ext cx="762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32004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724280"/>
            <a:ext cx="33530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705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543800" cy="192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167652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086600" cy="160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72388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45820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7400" y="1219320"/>
            <a:ext cx="1676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209680"/>
            <a:ext cx="990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267000" cy="60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01992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172200" cy="1198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9144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9144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467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19:36Z</dcterms:created>
  <dc:creator>grahams</dc:creator>
  <dc:description/>
  <dc:language>en-US</dc:language>
  <cp:lastModifiedBy>grahams</cp:lastModifiedBy>
  <dcterms:modified xsi:type="dcterms:W3CDTF">2012-03-20T14:14:52Z</dcterms:modified>
  <cp:revision>2</cp:revision>
  <dc:subject/>
  <dc:title>Slide 1</dc:title>
</cp:coreProperties>
</file>